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8A52-188E-4BF9-A8F1-EF964CC9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54D-BD8E-427C-94A7-962942C2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460-A129-4581-9CF1-859173CD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6CC-98DA-4472-B91C-63CE59A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8E0-8677-4C03-A57D-9FCB4313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0B5-A781-4DC9-A3A0-50D735E8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90B-F303-4023-AD0E-3AAD3694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5CF-5969-4E7D-88BF-BA0CB74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029-9AB0-44BA-A71B-42A056D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0A0-0C04-43F9-8DEF-2460A0E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CA4-672D-49E5-B031-DA233EED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ADC-B2C2-4C7B-9387-E648898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9A7-5626-44C1-AA87-0417092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7CD-5613-426F-BB5C-B2260938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157-D668-40FA-B1F1-366DC84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FFC-0C4A-46CF-BC6D-9A2D037B7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Health in India and Community-based Newbor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 of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atus of newbo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neonatal death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ce of newborn dea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in S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wborn in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newborn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newborn c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practi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HS III findings on newborn care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Gadchiroli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economic Determi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457200"/>
          <a:ext cx="8839440" cy="59342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 ground 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of mo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du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m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nd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l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ist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dhist/neo Buddh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alth 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low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Determi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609480"/>
          <a:ext cx="8839440" cy="6202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graphic characteristic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’s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’s age at bi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rth si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y sm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or Larg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found that as the birth interval decreases , both neonatal and post neonatal mortality increas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le, it is less in first order child than the child having  order mo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sential newborn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natal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ers contact/vis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 immu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 of RTIs/ST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prophylax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preparednes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&amp; delivery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killed attenda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deliv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hypother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breast 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eye 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natal c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ers contact/vis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breast 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, Cord c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32004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3"/>
          <p:cNvSpPr/>
          <p:nvPr/>
        </p:nvSpPr>
        <p:spPr>
          <a:xfrm>
            <a:off x="609480" y="457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nal and fetal com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mother to child transmission of 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or referral of obstetrics &amp; neonat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5486400" y="3886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, malformation, and other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v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if in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if neces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5"/>
          <p:cNvSpPr/>
          <p:nvPr/>
        </p:nvSpPr>
        <p:spPr>
          <a:xfrm>
            <a:off x="609480" y="396252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rth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warmth , K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, Cord 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feeding, if necess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6"/>
          <p:cNvSpPr/>
          <p:nvPr/>
        </p:nvSpPr>
        <p:spPr>
          <a:xfrm>
            <a:off x="5486400" y="457200"/>
            <a:ext cx="3048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Asphy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sc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resuscitation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if necess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80880" y="-52560"/>
            <a:ext cx="8153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ntervention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0" y="533520"/>
            <a:ext cx="8610480" cy="1675800"/>
            <a:chOff x="0" y="533520"/>
            <a:chExt cx="8610480" cy="1675800"/>
          </a:xfrm>
        </p:grpSpPr>
        <p:sp>
          <p:nvSpPr>
            <p:cNvPr id="81" name="Rectangle 5"/>
            <p:cNvSpPr/>
            <p:nvPr/>
          </p:nvSpPr>
          <p:spPr>
            <a:xfrm>
              <a:off x="0" y="533520"/>
              <a:ext cx="861048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1157400" y="605160"/>
              <a:ext cx="3809880" cy="1499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killed obstetric and immediate newborn care including resusci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mergency obstetric care to manage complications such as obstructed labour and hemorrh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ntibiotics for preterm rupture of membranes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rticosteroids for preterm labour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5224320" y="605160"/>
              <a:ext cx="2909880" cy="1499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mergency newborn care for illness, especially sepsis management and care of very low birth weight bab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 rot="16200000">
              <a:off x="-245160" y="1137600"/>
              <a:ext cx="1541880" cy="47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a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0" y="4343040"/>
            <a:ext cx="8610480" cy="1752840"/>
            <a:chOff x="0" y="4343040"/>
            <a:chExt cx="8610480" cy="1752840"/>
          </a:xfrm>
        </p:grpSpPr>
        <p:sp>
          <p:nvSpPr>
            <p:cNvPr id="86" name="Rectangle 10"/>
            <p:cNvSpPr/>
            <p:nvPr/>
          </p:nvSpPr>
          <p:spPr>
            <a:xfrm>
              <a:off x="0" y="4343400"/>
              <a:ext cx="8610480" cy="175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585720" y="4419720"/>
              <a:ext cx="533520" cy="160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olic acid 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1157400" y="4419720"/>
              <a:ext cx="2347920" cy="160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seling and preparation for newborn care and breastfeeding, emergency prepared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5238720" y="4419720"/>
              <a:ext cx="3048120" cy="153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ealthy home care including breastfeeding promotion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ygienic cord/skin care, thermal care, promoting demand for quality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tra care of low birth weight bab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ase management for pneum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 rot="16200000">
              <a:off x="-543600" y="4888080"/>
              <a:ext cx="1623960" cy="533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Family-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3562200" y="4419720"/>
              <a:ext cx="1600200" cy="158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lean home deli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imple early newborn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6"/>
          <p:cNvSpPr/>
          <p:nvPr/>
        </p:nvSpPr>
        <p:spPr>
          <a:xfrm>
            <a:off x="380880" y="5029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8186760" y="5105520"/>
            <a:ext cx="1057320" cy="457200"/>
          </a:xfrm>
          <a:prstGeom prst="downArrow">
            <a:avLst>
              <a:gd name="adj1" fmla="val 77343"/>
              <a:gd name="adj2" fmla="val 3263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15 - 3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8"/>
          <p:cNvGrpSpPr/>
          <p:nvPr/>
        </p:nvGrpSpPr>
        <p:grpSpPr>
          <a:xfrm>
            <a:off x="76320" y="2209680"/>
            <a:ext cx="8610480" cy="2133720"/>
            <a:chOff x="76320" y="2209680"/>
            <a:chExt cx="8610480" cy="2133720"/>
          </a:xfrm>
        </p:grpSpPr>
        <p:sp>
          <p:nvSpPr>
            <p:cNvPr id="95" name="Rectangle 19"/>
            <p:cNvSpPr/>
            <p:nvPr/>
          </p:nvSpPr>
          <p:spPr>
            <a:xfrm>
              <a:off x="76320" y="2209680"/>
              <a:ext cx="861048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1200240" y="2286000"/>
              <a:ext cx="2305080" cy="1922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-visit antenatal package inclu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etanus immunization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tection &amp; management of syphilis, other infections, pre-eclampsia, et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laria intermittent presumptive therapy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etection and treat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f bacteriuria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Calibri"/>
                  <a:ea typeface="Times New Roman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 rot="16200000">
              <a:off x="-402120" y="2992680"/>
              <a:ext cx="1795320" cy="533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Outrea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5272200" y="2319480"/>
              <a:ext cx="2938320" cy="1922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ostnatal care to support healthy pract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arly detection and referral of compl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3"/>
          <p:cNvSpPr/>
          <p:nvPr/>
        </p:nvSpPr>
        <p:spPr>
          <a:xfrm>
            <a:off x="3048120" y="2971800"/>
            <a:ext cx="1171440" cy="457200"/>
          </a:xfrm>
          <a:prstGeom prst="downArrow">
            <a:avLst>
              <a:gd name="adj1" fmla="val 76694"/>
              <a:gd name="adj2" fmla="val 2951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6 -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>
            <a:off x="7953480" y="1004760"/>
            <a:ext cx="1295280" cy="971640"/>
          </a:xfrm>
          <a:prstGeom prst="downArrow">
            <a:avLst>
              <a:gd name="adj1" fmla="val 57602"/>
              <a:gd name="adj2" fmla="val 236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23 -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NM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5"/>
          <p:cNvGrpSpPr/>
          <p:nvPr/>
        </p:nvGrpSpPr>
        <p:grpSpPr>
          <a:xfrm>
            <a:off x="0" y="6019920"/>
            <a:ext cx="9144000" cy="701640"/>
            <a:chOff x="0" y="6019920"/>
            <a:chExt cx="9144000" cy="701640"/>
          </a:xfrm>
        </p:grpSpPr>
        <p:sp>
          <p:nvSpPr>
            <p:cNvPr id="102" name="AutoShape 26"/>
            <p:cNvSpPr/>
            <p:nvPr/>
          </p:nvSpPr>
          <p:spPr>
            <a:xfrm>
              <a:off x="0" y="6103800"/>
              <a:ext cx="9144000" cy="5558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28" y="0"/>
                  </a:lnTo>
                  <a:lnTo>
                    <a:pt x="21600" y="10800"/>
                  </a:lnTo>
                  <a:lnTo>
                    <a:pt x="20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7"/>
            <p:cNvSpPr/>
            <p:nvPr/>
          </p:nvSpPr>
          <p:spPr>
            <a:xfrm>
              <a:off x="7437600" y="6216480"/>
              <a:ext cx="939600" cy="4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f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5410080" y="6251400"/>
              <a:ext cx="1482840" cy="30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Neonatal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9"/>
            <p:cNvSpPr/>
            <p:nvPr/>
          </p:nvSpPr>
          <p:spPr>
            <a:xfrm flipH="1">
              <a:off x="3871800" y="6019920"/>
              <a:ext cx="952560" cy="63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152280" y="6257880"/>
              <a:ext cx="1747800" cy="303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-</a:t>
              </a: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gn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1828800" y="6256440"/>
              <a:ext cx="1301760" cy="30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egn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2"/>
            <p:cNvSpPr/>
            <p:nvPr/>
          </p:nvSpPr>
          <p:spPr>
            <a:xfrm>
              <a:off x="4124160" y="6418080"/>
              <a:ext cx="538200" cy="30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ir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3"/>
          <p:cNvSpPr/>
          <p:nvPr/>
        </p:nvSpPr>
        <p:spPr>
          <a:xfrm>
            <a:off x="26510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natal check ups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593640"/>
          <a:ext cx="8763120" cy="6188040"/>
        </p:xfrm>
        <a:graphic>
          <a:graphicData uri="http://schemas.openxmlformats.org/drawingml/2006/table">
            <a:tbl>
              <a:tblPr/>
              <a:tblGrid>
                <a:gridCol w="4724640"/>
                <a:gridCol w="220968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 Ante Natal c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had at least one A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had ≥ 3 AN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received ≥ 2 TT injection during Preg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received 1 booster TT injection during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or Pregnancy after 3 years or more y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women received IFA ta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women consumed 90 or more IFA ta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s of Post natal check ups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609480"/>
          <a:ext cx="8839440" cy="266724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473120"/>
                <a:gridCol w="1473120"/>
                <a:gridCol w="1473120"/>
                <a:gridCol w="14734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 grou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between delivery &amp; first Post natal check up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ost natal check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4 h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23 h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1 day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5"/>
          <p:cNvSpPr/>
          <p:nvPr/>
        </p:nvSpPr>
        <p:spPr>
          <a:xfrm>
            <a:off x="228600" y="3581280"/>
            <a:ext cx="83818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health care provider for P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465800"/>
          <a:ext cx="8610480" cy="216360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722600"/>
                <a:gridCol w="1722240"/>
              </a:tblGrid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en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M/ Nu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health prov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of breast feeding NFHS I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371600"/>
          <a:ext cx="8839440" cy="447984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66880"/>
                <a:gridCol w="176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ings of initiation of breast fe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babies received prelacteal f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d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½ 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1 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 in 1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’s E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du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st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bidity pattern  NFH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676520"/>
          <a:ext cx="8686800" cy="320040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440"/>
                <a:gridCol w="1736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i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f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diarrh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diarrhea with blood in s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&lt; 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b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sough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have Solutio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community and facility-based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integrated  child health appro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anagement of neonatal and child hood illnesses is  prove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obal status of newbo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6094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atal and neonatal ill health in 2000 consisted of 7 million perinatal deaths (4 million still births and 3 million early neonatal deaths) and 1 million late neonatal de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ly burden of LBW infants- 16% of all births; while in developed countries (5-7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 in addition to this are bad practices in the co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s in perinatal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ve care before pregnanc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ANC that includes birth plans and emergency prepared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ed attendance during childbirth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cused postpartum care for the mother and the ba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-based Interventions to Reduce Newborn Deat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1143000" y="685800"/>
          <a:ext cx="685800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85800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4537440" y="2227320"/>
            <a:ext cx="198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sis/Pneum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153320" y="4387680"/>
            <a:ext cx="10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phyx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111480" y="4235400"/>
            <a:ext cx="7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819520" y="2635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ications of Pre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873240" y="1720800"/>
            <a:ext cx="81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505320" y="6292800"/>
            <a:ext cx="52560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birth weight is a signific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or in 40–70% of neonatal death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6553080" y="1415880"/>
            <a:ext cx="24386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nus Toxoid Immunization of 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&amp; Exclusiv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iotics for mother and 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400800" y="476892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s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lled Birth Atten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04920" y="141588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philis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ate Sup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6172200" y="2025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 flipV="1">
            <a:off x="5410080" y="51498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2971800" y="202536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34360" y="6597720"/>
            <a:ext cx="27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d from Lancet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2971800" y="2101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057400" y="59119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0" y="2406600"/>
            <a:ext cx="30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ar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natal Corticost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atment of Bacteri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04920" y="454032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garoo Moth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nal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676520" y="3397320"/>
            <a:ext cx="213336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1676520" y="33973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14400" y="1676520"/>
            <a:ext cx="7696080" cy="4952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133720" y="2133720"/>
            <a:ext cx="56196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557440" y="4662360"/>
            <a:ext cx="574560" cy="96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86280" y="4770360"/>
            <a:ext cx="574560" cy="8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416560" y="5310360"/>
            <a:ext cx="569880" cy="31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842160" y="5418000"/>
            <a:ext cx="573120" cy="20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557440" y="4122720"/>
            <a:ext cx="574560" cy="5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986280" y="4286160"/>
            <a:ext cx="574560" cy="484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5416560" y="5267160"/>
            <a:ext cx="569880" cy="43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6842160" y="5364000"/>
            <a:ext cx="57312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557440" y="2611440"/>
            <a:ext cx="574560" cy="15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986280" y="3463920"/>
            <a:ext cx="574560" cy="8222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5416560" y="5105520"/>
            <a:ext cx="569880" cy="161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6842160" y="5278320"/>
            <a:ext cx="573120" cy="85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131920" y="2200320"/>
            <a:ext cx="1800" cy="342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1871640" y="56246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1871640" y="49435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1871640" y="4253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1871640" y="3571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1871640" y="288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1871640" y="220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2136600" y="5624640"/>
            <a:ext cx="5712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1834920" y="5548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1765080" y="486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1765080" y="4176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765080" y="3497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1765080" y="280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1694880" y="2125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265536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408276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1304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6940080" y="57754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5543640" y="2739960"/>
            <a:ext cx="109440" cy="109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5691240" y="2687760"/>
            <a:ext cx="196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Post-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5543640" y="3086280"/>
            <a:ext cx="109440" cy="10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5690880" y="303228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Late 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8"/>
          <p:cNvSpPr/>
          <p:nvPr/>
        </p:nvSpPr>
        <p:spPr>
          <a:xfrm>
            <a:off x="5543640" y="3421080"/>
            <a:ext cx="109440" cy="1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9"/>
          <p:cNvSpPr/>
          <p:nvPr/>
        </p:nvSpPr>
        <p:spPr>
          <a:xfrm>
            <a:off x="5691240" y="3367080"/>
            <a:ext cx="200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Early neonatal morta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1430280" y="2082960"/>
            <a:ext cx="1800" cy="1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2568600" y="2255760"/>
            <a:ext cx="2120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2"/>
          <p:cNvSpPr/>
          <p:nvPr/>
        </p:nvSpPr>
        <p:spPr>
          <a:xfrm>
            <a:off x="2622600" y="228744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ing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3"/>
          <p:cNvSpPr/>
          <p:nvPr/>
        </p:nvSpPr>
        <p:spPr>
          <a:xfrm>
            <a:off x="5446800" y="4716360"/>
            <a:ext cx="2055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"/>
          <p:cNvSpPr/>
          <p:nvPr/>
        </p:nvSpPr>
        <p:spPr>
          <a:xfrm>
            <a:off x="5501520" y="4749840"/>
            <a:ext cx="21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5"/>
          <p:cNvSpPr/>
          <p:nvPr/>
        </p:nvSpPr>
        <p:spPr>
          <a:xfrm rot="2368800">
            <a:off x="2941560" y="2962440"/>
            <a:ext cx="1230480" cy="274320"/>
          </a:xfrm>
          <a:prstGeom prst="rightArrow">
            <a:avLst>
              <a:gd name="adj1" fmla="val 50000"/>
              <a:gd name="adj2" fmla="val 112139"/>
            </a:avLst>
          </a:prstGeom>
          <a:solidFill>
            <a:srgbClr val="519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990720" y="6172200"/>
            <a:ext cx="54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80"/>
                </a:solidFill>
                <a:latin typeface="Times New Roman"/>
                <a:ea typeface="Arial"/>
              </a:rPr>
              <a:t>Source:  RHR/WHO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7"/>
          <p:cNvSpPr/>
          <p:nvPr/>
        </p:nvSpPr>
        <p:spPr>
          <a:xfrm>
            <a:off x="2933640" y="2643120"/>
            <a:ext cx="204840" cy="206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rot="566400">
            <a:off x="2797200" y="4078440"/>
            <a:ext cx="1230120" cy="274320"/>
          </a:xfrm>
          <a:prstGeom prst="rightArrow">
            <a:avLst>
              <a:gd name="adj1" fmla="val 50000"/>
              <a:gd name="adj2" fmla="val 11210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9"/>
          <p:cNvSpPr/>
          <p:nvPr/>
        </p:nvSpPr>
        <p:spPr>
          <a:xfrm>
            <a:off x="2728800" y="3873600"/>
            <a:ext cx="409680" cy="274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 rot="105600">
            <a:off x="2819160" y="4648320"/>
            <a:ext cx="1230120" cy="272880"/>
          </a:xfrm>
          <a:prstGeom prst="rightArrow">
            <a:avLst>
              <a:gd name="adj1" fmla="val 50000"/>
              <a:gd name="adj2" fmla="val 1126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1"/>
          <p:cNvSpPr/>
          <p:nvPr/>
        </p:nvSpPr>
        <p:spPr>
          <a:xfrm>
            <a:off x="2728800" y="4148280"/>
            <a:ext cx="409680" cy="47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2797200" y="4694400"/>
            <a:ext cx="341280" cy="20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aths among infants under 7 days are decreasing more slowly than among older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ized case management of sick newborns an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the most common causes of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 assessment and counselling for all sick infants and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care for newborns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exclusive breast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hypother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illness recognition &amp; timely care 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NCI-INDIA-Major Adaptation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0-5 year period covered including the first week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of training time for management of young infants (0-2 mont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of training reversed; now begins with management of young inf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raining duration (8 days), separate training materials for physicians &amp; health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now consistent with current policies of MoHFW, DWCD,IYCF,PD &amp; N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-based care of young infants by health workers ad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IMNCI not provide at all or 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at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ed birth attend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 asphyxi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 care modules for first level referral hospi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for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A is a newer strategy adopted by GOI in addition to IMN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on of care at bir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o star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policy commitment &amp; Develop a national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linking the strategies to reduce neonatal mortality with related fields like Reproductive health, safe motherhood and child survi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newborn health services &amp; household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based on maternal and newborn health status, existing services, newborn care practices to be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demand of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most of the deliveries are taking place at home so, research into attitudes and dynamics of decision making at family level to be considered and appropriate plan for corrective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hanu Experience 1987-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Rural neonatal care project, started by Govt of Maharashtra, in Dahanu Block TBA played important role for caring the newbo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ce of warm chain and resuscitation of newborn recognized as a most important intervention besides detection of LBW/ preterm baby and safe transport of such ba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 length by foot print was used as indicator for refer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mortality rate dropped from 57.1 to 33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atal mortality rate dropped from 74.8 to 28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ciliary neonatal care by TBAs supported by facilities for neonatal care at PHCs and community hospitals can influence neonatal survival in ou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dchiroli Newborn Case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introduced home-based neonatal 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W are trained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prenatal car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scitate asphyxiated babi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nd treat hypotherm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breastfeed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treat infec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A are given training and basic supplies (clean delivery kits, IFA pills, condom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third year, there was a 62% decline in neonatal mortality, and significant declines in neonatal and maternal morbid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H II is supporting this home-based model for rural commun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tud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gladesh stu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topical treatment with skin barrier-enhancing emollients on nosocom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 in preterm infants in Bangladesh: a randomized controlled t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unflower oil or Aquaphor (petrolatum, mineral oil, mineral wax, lanolin alcohol daily for massage and found infants treated with sunflower seed oil were 41% less likely to develop nosocomial infections than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ncet:  Volume 365, Number 9464     19 March 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l stu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trial of the effect on birth weight of a daily multiple-micronutri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 given to Nepalese women during pregna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vestigators found an average increase in birth weight of 77 g and a 25% reduction in the rate of low birth weight compared with the controls who received iron and fol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ncet: Volume 365, Number 9463     12 March 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76120" y="152280"/>
            <a:ext cx="863928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ce of newborn deaths: Ind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762120"/>
          <a:ext cx="8229600" cy="454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5 child dea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ounded Rectangle 4"/>
          <p:cNvSpPr/>
          <p:nvPr/>
        </p:nvSpPr>
        <p:spPr>
          <a:xfrm>
            <a:off x="457200" y="5715000"/>
            <a:ext cx="8381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R  Data: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Neonatal Health in  S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762120"/>
          <a:ext cx="5943600" cy="4987800"/>
        </p:xfrm>
        <a:graphic>
          <a:graphicData uri="http://schemas.openxmlformats.org/drawingml/2006/table">
            <a:tbl>
              <a:tblPr/>
              <a:tblGrid>
                <a:gridCol w="716040"/>
                <a:gridCol w="2255760"/>
                <a:gridCol w="1486080"/>
                <a:gridCol w="148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.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R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MR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glade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u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cratic peoples of 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d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nm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i Lan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il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or 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ounded Rectangle 5"/>
          <p:cNvSpPr/>
          <p:nvPr/>
        </p:nvSpPr>
        <p:spPr>
          <a:xfrm>
            <a:off x="304920" y="601992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www.who.int/whosis/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38080" y="1143000"/>
          <a:ext cx="7543800" cy="4724280"/>
        </p:xfrm>
        <a:graphic>
          <a:graphicData uri="http://schemas.openxmlformats.org/drawingml/2006/table">
            <a:tbl>
              <a:tblPr/>
              <a:tblGrid>
                <a:gridCol w="681120"/>
                <a:gridCol w="2046240"/>
                <a:gridCol w="2408400"/>
                <a:gridCol w="2408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. n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harasht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e natal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mortality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5 mortal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Mortalit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4"/>
          <p:cNvSpPr/>
          <p:nvPr/>
        </p:nvSpPr>
        <p:spPr>
          <a:xfrm>
            <a:off x="304920" y="6019920"/>
            <a:ext cx="8534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NFHS III 2005-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Childhood Mortality Rates for the Five-Ye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 preceding the Survey, NFHS-1, NFHS-2, and NFHS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11360" y="1619280"/>
            <a:ext cx="76705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and post neonatal mort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685800"/>
          <a:ext cx="8839440" cy="475452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preceding the surve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 neonatal mort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r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ounded Rectangle 5"/>
          <p:cNvSpPr/>
          <p:nvPr/>
        </p:nvSpPr>
        <p:spPr>
          <a:xfrm>
            <a:off x="228600" y="5486400"/>
            <a:ext cx="8686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al mortality rate has decreased by 12 deaths per 1,000 live births (from 51 to 3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neonatal mortality rate has decreased by 7 deaths per 1,000 live births (from 25 to 18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the neonatal and post neonatal periods, mortality in rural areas is about 50 percent higher than mortality in urban are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onatal period, the decline in mortality was slightly faster in rural areas (26 percent) than in urban areas (18 perc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stratify states and divisions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very high (above 50/1000 NM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(35-50/1000 NM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(20-34/1000 NM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(less than 20/1000 NM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1:19:49Z</dcterms:created>
  <dc:creator> </dc:creator>
  <dc:description/>
  <dc:language>en-US</dc:language>
  <cp:lastModifiedBy> </cp:lastModifiedBy>
  <dcterms:modified xsi:type="dcterms:W3CDTF">2007-12-05T16:58:11Z</dcterms:modified>
  <cp:revision>84</cp:revision>
  <dc:subject/>
  <dc:title>  Status of Newborn Health and Community-based Newborn Care   </dc:title>
</cp:coreProperties>
</file>